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03A-DF7D-4046-846E-7607A290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239-951F-420C-82C7-76CCD542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410-2583-401A-B857-53A56740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17F-E575-43CA-AB16-A1D398E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FD2-E8EA-40E2-9662-D730154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577-155D-4F40-8BCD-5525742D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DDD-138A-457F-9A71-94B64946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F00-991F-4E0B-96C6-976CAF1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83B-F549-489B-B4E2-CF9C2C2A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050-651C-4865-812F-70CD634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7E4-316E-4A4B-8A6B-33EF43FD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B24-52DB-4E55-846E-57BE182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F89-FA29-4637-8850-B492C66E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557360"/>
            <a:ext cx="7139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IS PROJECT WAS COMPLETED BY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JOHN STOCKBRIDG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3141720"/>
            <a:ext cx="437184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&amp;JOR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STO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ed to find out about children’s litter dropping habits. Our question was:   Do younger children drop more litter than older childr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we choose to do this ques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sometimes had litter in our hands and didn’t know what to do with it, particularly if we didn’t have pockets in our shorts and there was no bin a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ondered what others would do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0"/>
            <a:ext cx="297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photos of litter around the school and in the wre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Questionna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questionnaires to children in yea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questionnaires to children in years 1+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0"/>
            <a:ext cx="842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thod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260280"/>
            <a:ext cx="824364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loted the questionnai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iloted the questionnaire first.  This means that we gave the questionnaire out to a few children to see if it was a good questionnaire.  We needed to find out if the questionnaire could be improved.  We didn’t want to use words that would be too difficult for younger children, for exam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we find ou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year 5 questionn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/20 children drop li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20 do it every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 never dr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20 put rubbish in the bu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years 1&amp;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/20 said they never drop l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0 said they drop litter once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main conclusion was that young children, in years 1 and 2, do NOT drop as much litter as older childr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3:42:57Z</dcterms:created>
  <dc:creator>supervisor</dc:creator>
  <dc:description/>
  <dc:language>en-US</dc:language>
  <cp:lastModifiedBy>supervisor</cp:lastModifiedBy>
  <dcterms:modified xsi:type="dcterms:W3CDTF">2007-07-12T14:25:28Z</dcterms:modified>
  <cp:revision>6</cp:revision>
  <dc:subject/>
  <dc:title>Slide 1</dc:title>
</cp:coreProperties>
</file>